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61C-47C0-4999-96F4-BD52DB91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019-730A-4614-AC14-257EB2D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01A-2B16-4A84-87B9-2B5B76EF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062-B3C9-4E34-A001-F558AF90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FDA-4DBC-42A7-B504-6A885BD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A77-F841-490D-A083-36E8217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342-4939-490E-8090-FBCCA40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02F-FBDF-4BDA-A4D9-B73EBA1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BF5-0E24-4057-A7A7-CE80A62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5B6-36A2-49CD-8420-7935A53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8EE-1BAA-467A-81CF-A25DD8A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DFD-679B-456C-B8EF-3ECC6FE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D75-08E7-47E8-B543-767FCFBD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0574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8991720" cy="31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36520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651200" cy="465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6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9:32:03Z</dcterms:modified>
  <cp:revision>8</cp:revision>
  <dc:subject/>
  <dc:title>Slide 1</dc:title>
</cp:coreProperties>
</file>